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2B0-1103-43D0-94FA-BBEEDDDA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F43-B387-41A1-944D-9B90601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F5C-0990-44E4-AC53-C1951BDA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993-FA1B-4FF8-B73B-68D0E354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E19-5428-4AE4-A6CD-673006E3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036-B953-47F1-83AF-B2CD768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C28-7AD0-4711-A0B4-0D6B8024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BB8-DB02-429A-8D70-719F6A12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EF1-3C41-470E-8FF6-42E14E00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7F3-3BE8-4F9F-BC64-B083DC6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DB7-F9EA-4AB6-ABCF-54A1ECA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2A5-9C82-4E62-8FAA-4BA406B0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289-3D17-4416-B631-B7F7D5009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nahomi</cp:lastModifiedBy>
  <dcterms:modified xsi:type="dcterms:W3CDTF">2010-03-25T14:56:30Z</dcterms:modified>
  <cp:revision>2</cp:revision>
  <dc:subject/>
  <dc:title>Advanced Portfolio</dc:title>
</cp:coreProperties>
</file>